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BE53-8C13-4588-8D28-DE46CBC5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B513-7ABC-4574-A49A-C7E109EA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2BA-3BEB-4B5E-82CC-B2EEE23D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501F-F39C-423E-8821-F223DE8A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64C-2791-418D-B670-3D7875A9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5014-8B0C-4B68-87E4-5E9FFF3A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FC4-3AC7-46AA-80E8-180C2894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6AB9-C918-400D-A419-C0B1B837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ACB-0403-490C-837E-98B16B65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C68-62EA-4EFB-A9E7-E503F19E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470-DBF5-4CB2-9E17-5AC83B39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8888-DA25-48B7-B706-266224B2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38762-61DF-4D3D-B438-B7D94571E1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8C53D-E76F-4F1B-8316-E788C5CCC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9800" y="1383840"/>
            <a:ext cx="7988400" cy="39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4 Corners: LOTF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hapter 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laim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Only the strongest, smartest, and most clever people should survive.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laim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 “bigguns”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hould be responsible for the “littluns”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on the islan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laim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Life on an island with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NO ADULT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ould be fu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laim 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oger and Maurice are act appropiately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laim #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re should be consequence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for bad behavior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laim #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f you won’t get caught, it’s ok to engage in bad behavior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8:43:07Z</dcterms:created>
  <dc:creator>Teacher</dc:creator>
  <dc:description/>
  <dc:language>en-US</dc:language>
  <cp:lastModifiedBy>Teacher</cp:lastModifiedBy>
  <dcterms:modified xsi:type="dcterms:W3CDTF">2012-02-29T18:55:19Z</dcterms:modified>
  <cp:revision>6</cp:revision>
  <dc:subject/>
  <dc:title>4 Corners: LOTF  Chapter 4</dc:title>
</cp:coreProperties>
</file>